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953475"/>
        <c:axId val="85590444"/>
      </c:barChart>
      <c:catAx>
        <c:axId val="659534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90444"/>
        <c:crosses val="autoZero"/>
        <c:auto val="1"/>
        <c:lblAlgn val="ctr"/>
        <c:lblOffset val="100"/>
        <c:noMultiLvlLbl val="0"/>
      </c:catAx>
      <c:valAx>
        <c:axId val="855904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534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872-021D-41DD-BA94-0B9B5A12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E41-64A5-4BC1-818F-8FEFCCB5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C117-F911-4331-AF6F-C0060BC4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D990-BD2D-4AB7-A3C9-6F303FD8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E058-3133-4EFB-876C-4A8E49D8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1890-85CD-4D9E-A462-E7D3B275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737-0BB4-44C3-A7B8-3B36E157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214-BD35-4F42-A6BF-F14940BA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A73-BCE0-4A82-9479-8FFDB8D3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34C-5490-409B-8975-88348ED9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1BA-5623-46C0-BE34-5E503C0D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7F2B-36EF-4EAE-81BA-EF63A86A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C78B9-83CF-4B99-863B-739D76054B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