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17056"/>
        <c:axId val="93371537"/>
      </c:barChart>
      <c:catAx>
        <c:axId val="49217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71537"/>
        <c:crosses val="autoZero"/>
        <c:auto val="1"/>
        <c:lblAlgn val="ctr"/>
        <c:lblOffset val="100"/>
        <c:noMultiLvlLbl val="0"/>
      </c:catAx>
      <c:valAx>
        <c:axId val="93371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17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BF7-5003-4706-B8A5-3EA859DE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B86-B7B2-4B3A-AFE4-6FCD6A07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725-B656-4C8E-8246-EAAB80B2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443-767E-42E3-9016-397F8322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EAA-E3B0-4E96-8ED6-8AEDB39A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326-86ED-4D4E-AC72-BEE985EB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C13-12AC-4041-B1FE-74F6A73E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48E-7CCF-449F-AB67-7D224805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2F3-9327-4D6E-902D-38DF4B69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EF1-B42E-4187-8C48-98459A1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B18-0F2E-4B79-B109-4152064F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EA2-B244-424F-A135-42E923FB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7B3B0-3202-4DE1-BF59-E162587DCB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