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58123"/>
        <c:axId val="34068869"/>
      </c:barChart>
      <c:catAx>
        <c:axId val="82558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68869"/>
        <c:crosses val="autoZero"/>
        <c:auto val="1"/>
        <c:lblAlgn val="ctr"/>
        <c:lblOffset val="100"/>
        <c:noMultiLvlLbl val="0"/>
      </c:catAx>
      <c:valAx>
        <c:axId val="34068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58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F6A-127C-4B2C-BE9B-A96925E3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5B0-8143-42D5-AA05-3E249319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731-E80C-4DBD-BAE4-216AF546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7B3-C70C-4BE8-935D-F94B5C65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728-1B0E-47D6-A4AD-646C22F2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B75-8D8D-45C2-A2FB-CA0C060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742-F752-4669-9C67-7C0A96A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77A-B2E3-472B-8155-476A8B4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4DB-427C-4D21-ABDF-8330395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E1F-C255-4BC9-81C8-01721AC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92C-F762-4806-98D1-CAA3D28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7FA-39BB-4545-9E0C-326D06B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0003C-4B11-4B8F-967B-EFCAC3CAC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