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34602"/>
        <c:axId val="12760063"/>
      </c:barChart>
      <c:catAx>
        <c:axId val="34634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60063"/>
        <c:crosses val="autoZero"/>
        <c:auto val="1"/>
        <c:lblAlgn val="ctr"/>
        <c:lblOffset val="100"/>
        <c:noMultiLvlLbl val="0"/>
      </c:catAx>
      <c:valAx>
        <c:axId val="12760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34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1B0-864F-495D-AEBB-F3E5B142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39E-0603-418B-9451-23377434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11A-6841-41A9-8755-A692CF69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CE7-0DE4-46B0-AF2B-E26BBFE9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5C0-C8EC-44B4-9C11-5BFA4F62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857-960E-4091-B13F-721A56B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7DB-74E6-494B-99C7-8DDF59A4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4E4-DE55-416A-94A7-36CC7B5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051-792C-4686-8807-CB99E9D1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12E-1247-433E-9B9E-A5B7A322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1BF-3ED7-46E8-84AB-19D9E94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40F-6EF5-4E7F-B673-DB2614D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766B-AE0F-464C-8BAD-D3ACE05915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